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7B1B-0A59-4A32-A31F-900FA007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642A-01AD-408B-BFA0-876CFD7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9932-334C-4F32-9D1B-01A0EF52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3545-A849-424A-AFA3-1A687E7A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DF4-33A1-474D-AFEE-422670D1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CB40-0EB0-49D4-9AD4-7538C332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605-6517-488F-A289-7AB6D997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05E3-9AA7-49D5-AC26-AAF52C2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03AD-E495-4894-83A1-45C9B60D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C7B3-5667-4A86-BE39-5162FDB0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9C5D-BC96-4479-9FE1-444A26BD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D6B8-04DD-49C4-ABAA-333BE83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C096-E4A2-4DEA-A102-695F8339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187F-A8FF-44FE-B7B9-57B404D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836-E712-4AA7-8663-B2B7B68F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95C1-6DB4-4136-A830-D4C1EC11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F45-3E33-4834-865A-655F0952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73C9-34C8-4614-B0E4-CEEF2C92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EB43-6857-4AE3-BE47-407A773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0DA4-1EA0-4D8A-B925-C8F6ED9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93DB-8406-4762-871E-001B3614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9B3B-85E0-43D6-A357-60423D6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ADFA-B5F9-4B2C-B95F-8A7ECE4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5C98-7434-46EB-A930-C196448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7D8D-7330-4C81-AFE4-876CD3935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51E-656C-460E-B8CC-41766274A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file:///tmp/home/.config/libreoffice/4/user/gallery/MSSN00716A0000%5B1%5D.wav" TargetMode="External"/><Relationship Id="rId3" Type="http://schemas.microsoft.com/office/2007/relationships/media" Target="file:///tmp/home/.config/libreoffice/4/user/gallery/MSSN00716A0000%5B1%5D.wav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Strongest One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r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and soli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xhibi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hing set up for you to look at in a place like a museum or z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075040" cy="235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454480" cy="2595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i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ing against because you don’t want 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285120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cked and very surpri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393920" cy="1771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1482480" cy="191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733920" y="3505320"/>
            <a:ext cx="196848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ni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one who is very, very sm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21891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d and contented with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657600" y="3200400"/>
            <a:ext cx="2016000" cy="2739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7010280" y="3048120"/>
            <a:ext cx="1629000" cy="1706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6320" y="2209680"/>
            <a:ext cx="1955520" cy="1041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33520" y="4038480"/>
            <a:ext cx="838080" cy="179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13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ngerou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naw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rra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lativ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angero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sa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810240" cy="238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naw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ting and wearing away by bi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57600" y="3200400"/>
            <a:ext cx="32083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arra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erson who tells a story or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0400" y="2949480"/>
            <a:ext cx="327672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lativ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ople who belong to the same family as you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lic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qu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hib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i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lic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hing that is thin and easily brok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20304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qui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sk questions or try to find out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2776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2:44:01Z</dcterms:created>
  <dc:creator> </dc:creator>
  <dc:description/>
  <dc:language>en-US</dc:language>
  <cp:lastModifiedBy> </cp:lastModifiedBy>
  <dcterms:modified xsi:type="dcterms:W3CDTF">2007-09-28T03:33:39Z</dcterms:modified>
  <cp:revision>3</cp:revision>
  <dc:subject/>
  <dc:title>The Strongest One Vocabulary</dc:title>
</cp:coreProperties>
</file>